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4A35C-002A-4685-A3B0-6A08B372BC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A2644FE-6B32-4F70-8ECB-BDB992AB5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EDE6385-436B-4214-BD3E-7115D24B1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50679AE-65CA-494A-8035-673D0A015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37AECE-2D74-4B90-AA5E-AE2B9F5DE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A65C194-B327-4C0D-B8B5-83788891F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E712F83-0E36-4708-8745-0F80FFB7E6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FBB6F95-D9BF-4DF6-956A-FD24B2B07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0A51726-DF3A-47D8-9D55-3DB0547471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ECD0849-712A-42D5-AD09-4BB7CB61C2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8B375C1-6B8C-4E33-86C3-B4784527D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98629B2-28E8-40B9-8087-453AA70A17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A90F8CB-A8B6-4451-B1B0-3CC6C82342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A399204-BC3A-4B20-887E-A700B06996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D3721F6-1ADF-4248-82BB-2D038BE3FA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8898A61-9344-4143-B823-A3A631AFD9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8DBED43-4CA7-449F-9624-EA847BB67A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C4836C6-70B7-416C-B2A3-E2D0DDC32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62C474A-09D0-44B2-A791-CFEB23F48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C24731A-21B1-45AF-8FF0-ECE403E659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B07F3F6-8CE7-4B98-B6C6-11AAB04B5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48B8AAB-37ED-475D-9915-438405D02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DC95B9A-449A-47F9-BC0A-BB3D00463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21D0646-722D-4763-A753-25D2D0D39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50AE-8CE9-46CA-9B4C-38E48E85D67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9E7D-733B-4761-9C70-D484433ECFB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uman impacts on Antarctic</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think the concerns might b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8AEE67C-3AC6-4CB3-B598-89FCEA792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irates?</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of the world’s fishing grounds like the North Atlantic are already in trouble. Numbers of cod are at a twenty year low. More fishing boats have headed south to Antarctica. Antarctic waters may be the most regulated in the world, but as no-one owns the continent it is difficult control unlicensed fish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irates fishing in the area are seriously threatening Antarctica’s fish stocks. The Patagonian toothfish is a particularly prized catch – fishermen can sell these fish for £10 a kilo, which is a lot when just one can weigh over 100 kilos! Some pirate fishermen can make more money than drug traffickers. In parts of Antarctica, it has been estimated that up to 90% of the Patagonian toothfish caught may have been fished by pirate boat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eabirds (including the albatross) are another victim. They drown as they get caught on hooks as they dive to catch the fishermen’s ba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E97BA79-0497-45BF-9A5E-D06CB3104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les</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story of Antarctic whaling is one of greed and excess. One after another species had been hunted to a point of extin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The Antarctic whale fishery has been described as being more like mining than a sustainable fisher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Whaling Commission (IWC) tried to regulate the industry to a position of sustainability (where catches are balanced by production) but largely fail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in the 1960s blue and humpback whales were fully protected, protection that was then extended to fin and sei whales in the 1970s. In 1986 the IWC suspended all commercial whal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ever  some nations particularly Japan continue to take whales for 'scientific research'. All these whales end up in restaurants and one whale can have a  $1,000,000 market value at the restaurant t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E6DCA75-9328-4BAA-B348-9454983A8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45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tsam</a:t>
            </a:r>
            <a:endParaRPr b="0" lang="en-US" sz="4000" spc="-1" strike="noStrike">
              <a:solidFill>
                <a:srgbClr val="006666"/>
              </a:solidFill>
              <a:latin typeface="Comic Sans MS"/>
            </a:endParaRPr>
          </a:p>
        </p:txBody>
      </p:sp>
      <p:sp>
        <p:nvSpPr>
          <p:cNvPr id="188" name="PlaceHolder 2"/>
          <p:cNvSpPr>
            <a:spLocks noGrp="1"/>
          </p:cNvSpPr>
          <p:nvPr>
            <p:ph/>
          </p:nvPr>
        </p:nvSpPr>
        <p:spPr>
          <a:xfrm>
            <a:off x="250560" y="691920"/>
            <a:ext cx="6265800" cy="6165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 increasing problem in Antarctic waters (and in the rest of the world too) is flotsam and debris lost overboard from ships, particularly fishing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its of fishing net, fishing line,                      boxes, strapping bands etc. might           sound harmless if unsightly, but they can have a deadly effect on wildlif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ur seals can suffer the most as                         the youngsters in particular are                            very playful and what starts off as               a game with a plastic band can soon      turn nasty as it gets stuck over the seals h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able to remove the band it                            begins to cut into the flesh causing physical injury, infection and ultimately a long and slow death</a:t>
            </a:r>
            <a:endParaRPr b="0" lang="en-US" sz="2400" spc="-1" strike="noStrike">
              <a:solidFill>
                <a:srgbClr val="006699"/>
              </a:solidFill>
              <a:latin typeface="Comic Sans MS"/>
            </a:endParaRPr>
          </a:p>
        </p:txBody>
      </p:sp>
      <p:pic>
        <p:nvPicPr>
          <p:cNvPr id="189" name="" descr=""/>
          <p:cNvPicPr/>
          <p:nvPr/>
        </p:nvPicPr>
        <p:blipFill>
          <a:blip r:embed="rId5"/>
          <a:stretch/>
        </p:blipFill>
        <p:spPr>
          <a:xfrm>
            <a:off x="5943600" y="333360"/>
            <a:ext cx="3200400" cy="3086280"/>
          </a:xfrm>
          <a:prstGeom prst="rect">
            <a:avLst/>
          </a:prstGeom>
          <a:ln w="0">
            <a:noFill/>
          </a:ln>
        </p:spPr>
      </p:pic>
      <p:pic>
        <p:nvPicPr>
          <p:cNvPr id="190" name="" descr=""/>
          <p:cNvPicPr/>
          <p:nvPr/>
        </p:nvPicPr>
        <p:blipFill>
          <a:blip r:embed="rId6"/>
          <a:stretch/>
        </p:blipFill>
        <p:spPr>
          <a:xfrm>
            <a:off x="5796000" y="3527280"/>
            <a:ext cx="3348000" cy="2316240"/>
          </a:xfrm>
          <a:prstGeom prst="rect">
            <a:avLst/>
          </a:prstGeom>
          <a:ln w="0">
            <a:noFill/>
          </a:ln>
        </p:spPr>
      </p:pic>
      <p:sp>
        <p:nvSpPr>
          <p:cNvPr id="4" name="PlaceHolder 3"/>
          <p:cNvSpPr>
            <a:spLocks noGrp="1"/>
          </p:cNvSpPr>
          <p:nvPr>
            <p:ph type="sldNum" idx="1"/>
          </p:nvPr>
        </p:nvSpPr>
        <p:spPr/>
        <p:txBody>
          <a:bodyPr/>
          <a:p>
            <a:fld id="{913853C6-C676-440A-BFC5-6E29A2C2E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pic>
        <p:nvPicPr>
          <p:cNvPr id="192" name="" descr=""/>
          <p:cNvPicPr/>
          <p:nvPr/>
        </p:nvPicPr>
        <p:blipFill>
          <a:blip r:embed="rId1"/>
          <a:stretch/>
        </p:blipFill>
        <p:spPr>
          <a:xfrm>
            <a:off x="2771640" y="1773360"/>
            <a:ext cx="5710320" cy="4706640"/>
          </a:xfrm>
          <a:prstGeom prst="rect">
            <a:avLst/>
          </a:prstGeom>
          <a:ln w="0">
            <a:noFill/>
          </a:ln>
        </p:spPr>
      </p:pic>
      <p:sp>
        <p:nvSpPr>
          <p:cNvPr id="193" name="PlaceHolder 2"/>
          <p:cNvSpPr>
            <a:spLocks noGrp="1"/>
          </p:cNvSpPr>
          <p:nvPr>
            <p:ph/>
          </p:nvPr>
        </p:nvSpPr>
        <p:spPr>
          <a:xfrm>
            <a:off x="250920" y="907920"/>
            <a:ext cx="8208720" cy="648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are your chemical symbol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D2EDBC8-62CF-42F3-BCCB-EB6ECCD9F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sp>
        <p:nvSpPr>
          <p:cNvPr id="195" name="PlaceHolder 2"/>
          <p:cNvSpPr>
            <a:spLocks noGrp="1"/>
          </p:cNvSpPr>
          <p:nvPr>
            <p:ph/>
          </p:nvPr>
        </p:nvSpPr>
        <p:spPr>
          <a:xfrm>
            <a:off x="250560" y="1052280"/>
            <a:ext cx="28083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Ke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Ag</a:t>
            </a:r>
            <a:r>
              <a:rPr b="0" lang="en-GB" sz="2400" spc="-1" strike="noStrike">
                <a:solidFill>
                  <a:srgbClr val="006699"/>
                </a:solidFill>
                <a:latin typeface="Comic Sans MS"/>
              </a:rPr>
              <a:t> - Silver</a:t>
            </a:r>
            <a:br>
              <a:rPr sz="2400"/>
            </a:br>
            <a:r>
              <a:rPr b="1" lang="en-GB" sz="2400" spc="-1" strike="noStrike">
                <a:solidFill>
                  <a:srgbClr val="006699"/>
                </a:solidFill>
                <a:latin typeface="Comic Sans MS"/>
              </a:rPr>
              <a:t>Au</a:t>
            </a:r>
            <a:r>
              <a:rPr b="0" lang="en-GB" sz="2400" spc="-1" strike="noStrike">
                <a:solidFill>
                  <a:srgbClr val="006699"/>
                </a:solidFill>
                <a:latin typeface="Comic Sans MS"/>
              </a:rPr>
              <a:t> - Gold</a:t>
            </a:r>
            <a:br>
              <a:rPr sz="2400"/>
            </a:br>
            <a:r>
              <a:rPr b="1" lang="en-GB" sz="2400" spc="-1" strike="noStrike">
                <a:solidFill>
                  <a:srgbClr val="006699"/>
                </a:solidFill>
                <a:latin typeface="Comic Sans MS"/>
              </a:rPr>
              <a:t>Co</a:t>
            </a:r>
            <a:r>
              <a:rPr b="0" lang="en-GB" sz="2400" spc="-1" strike="noStrike">
                <a:solidFill>
                  <a:srgbClr val="006699"/>
                </a:solidFill>
                <a:latin typeface="Comic Sans MS"/>
              </a:rPr>
              <a:t> - Cobalt</a:t>
            </a:r>
            <a:br>
              <a:rPr sz="2400"/>
            </a:br>
            <a:r>
              <a:rPr b="1" lang="en-GB" sz="2400" spc="-1" strike="noStrike">
                <a:solidFill>
                  <a:srgbClr val="006699"/>
                </a:solidFill>
                <a:latin typeface="Comic Sans MS"/>
              </a:rPr>
              <a:t>Cu</a:t>
            </a:r>
            <a:r>
              <a:rPr b="0" lang="en-GB" sz="2400" spc="-1" strike="noStrike">
                <a:solidFill>
                  <a:srgbClr val="006699"/>
                </a:solidFill>
                <a:latin typeface="Comic Sans MS"/>
              </a:rPr>
              <a:t> - copper</a:t>
            </a:r>
            <a:br>
              <a:rPr sz="2400"/>
            </a:br>
            <a:r>
              <a:rPr b="1" lang="en-GB" sz="2400" spc="-1" strike="noStrike">
                <a:solidFill>
                  <a:srgbClr val="006699"/>
                </a:solidFill>
                <a:latin typeface="Comic Sans MS"/>
              </a:rPr>
              <a:t>Cr</a:t>
            </a:r>
            <a:r>
              <a:rPr b="0" lang="en-GB" sz="2400" spc="-1" strike="noStrike">
                <a:solidFill>
                  <a:srgbClr val="006699"/>
                </a:solidFill>
                <a:latin typeface="Comic Sans MS"/>
              </a:rPr>
              <a:t> - Chromium</a:t>
            </a:r>
            <a:br>
              <a:rPr sz="2400"/>
            </a:br>
            <a:r>
              <a:rPr b="1" lang="en-GB" sz="2400" spc="-1" strike="noStrike">
                <a:solidFill>
                  <a:srgbClr val="006699"/>
                </a:solidFill>
                <a:latin typeface="Comic Sans MS"/>
              </a:rPr>
              <a:t>Fe</a:t>
            </a:r>
            <a:r>
              <a:rPr b="0" lang="en-GB" sz="2400" spc="-1" strike="noStrike">
                <a:solidFill>
                  <a:srgbClr val="006699"/>
                </a:solidFill>
                <a:latin typeface="Comic Sans MS"/>
              </a:rPr>
              <a:t> - Iron</a:t>
            </a:r>
            <a:br>
              <a:rPr sz="2400"/>
            </a:br>
            <a:r>
              <a:rPr b="1" lang="en-GB" sz="2400" spc="-1" strike="noStrike">
                <a:solidFill>
                  <a:srgbClr val="006699"/>
                </a:solidFill>
                <a:latin typeface="Comic Sans MS"/>
              </a:rPr>
              <a:t>Mb</a:t>
            </a:r>
            <a:r>
              <a:rPr b="0" lang="en-GB" sz="2400" spc="-1" strike="noStrike">
                <a:solidFill>
                  <a:srgbClr val="006699"/>
                </a:solidFill>
                <a:latin typeface="Comic Sans MS"/>
              </a:rPr>
              <a:t> - Molybdenum</a:t>
            </a:r>
            <a:br>
              <a:rPr sz="2400"/>
            </a:br>
            <a:r>
              <a:rPr b="1" lang="en-GB" sz="2400" spc="-1" strike="noStrike">
                <a:solidFill>
                  <a:srgbClr val="006699"/>
                </a:solidFill>
                <a:latin typeface="Comic Sans MS"/>
              </a:rPr>
              <a:t>Mn</a:t>
            </a:r>
            <a:r>
              <a:rPr b="0" lang="en-GB" sz="2400" spc="-1" strike="noStrike">
                <a:solidFill>
                  <a:srgbClr val="006699"/>
                </a:solidFill>
                <a:latin typeface="Comic Sans MS"/>
              </a:rPr>
              <a:t> - Manganese</a:t>
            </a:r>
            <a:br>
              <a:rPr sz="2400"/>
            </a:br>
            <a:r>
              <a:rPr b="1" lang="en-GB" sz="2400" spc="-1" strike="noStrike">
                <a:solidFill>
                  <a:srgbClr val="006699"/>
                </a:solidFill>
                <a:latin typeface="Comic Sans MS"/>
              </a:rPr>
              <a:t>Ni</a:t>
            </a:r>
            <a:r>
              <a:rPr b="0" lang="en-GB" sz="2400" spc="-1" strike="noStrike">
                <a:solidFill>
                  <a:srgbClr val="006699"/>
                </a:solidFill>
                <a:latin typeface="Comic Sans MS"/>
              </a:rPr>
              <a:t> - Nickel</a:t>
            </a:r>
            <a:br>
              <a:rPr sz="2400"/>
            </a:br>
            <a:r>
              <a:rPr b="1" lang="en-GB" sz="2400" spc="-1" strike="noStrike">
                <a:solidFill>
                  <a:srgbClr val="006699"/>
                </a:solidFill>
                <a:latin typeface="Comic Sans MS"/>
              </a:rPr>
              <a:t>Pb</a:t>
            </a:r>
            <a:r>
              <a:rPr b="0" lang="en-GB" sz="2400" spc="-1" strike="noStrike">
                <a:solidFill>
                  <a:srgbClr val="006699"/>
                </a:solidFill>
                <a:latin typeface="Comic Sans MS"/>
              </a:rPr>
              <a:t> - Lead</a:t>
            </a:r>
            <a:br>
              <a:rPr sz="2400"/>
            </a:br>
            <a:r>
              <a:rPr b="1" lang="en-GB" sz="2400" spc="-1" strike="noStrike">
                <a:solidFill>
                  <a:srgbClr val="006699"/>
                </a:solidFill>
                <a:latin typeface="Comic Sans MS"/>
              </a:rPr>
              <a:t>Ti</a:t>
            </a:r>
            <a:r>
              <a:rPr b="0" lang="en-GB" sz="2400" spc="-1" strike="noStrike">
                <a:solidFill>
                  <a:srgbClr val="006699"/>
                </a:solidFill>
                <a:latin typeface="Comic Sans MS"/>
              </a:rPr>
              <a:t> - Titanium</a:t>
            </a:r>
            <a:br>
              <a:rPr sz="2400"/>
            </a:br>
            <a:r>
              <a:rPr b="1" lang="en-GB" sz="2400" spc="-1" strike="noStrike">
                <a:solidFill>
                  <a:srgbClr val="006699"/>
                </a:solidFill>
                <a:latin typeface="Comic Sans MS"/>
              </a:rPr>
              <a:t>U</a:t>
            </a:r>
            <a:r>
              <a:rPr b="0" lang="en-GB" sz="2400" spc="-1" strike="noStrike">
                <a:solidFill>
                  <a:srgbClr val="006699"/>
                </a:solidFill>
                <a:latin typeface="Comic Sans MS"/>
              </a:rPr>
              <a:t> - Uranium</a:t>
            </a:r>
            <a:br>
              <a:rPr sz="2400"/>
            </a:br>
            <a:r>
              <a:rPr b="1" lang="en-GB" sz="2400" spc="-1" strike="noStrike">
                <a:solidFill>
                  <a:srgbClr val="006699"/>
                </a:solidFill>
                <a:latin typeface="Comic Sans MS"/>
              </a:rPr>
              <a:t>Zn</a:t>
            </a:r>
            <a:r>
              <a:rPr b="0" lang="en-GB" sz="2400" spc="-1" strike="noStrike">
                <a:solidFill>
                  <a:srgbClr val="006699"/>
                </a:solidFill>
                <a:latin typeface="Comic Sans MS"/>
              </a:rPr>
              <a:t> - Zinc</a:t>
            </a:r>
            <a:endParaRPr b="0" lang="en-US" sz="2400" spc="-1" strike="noStrike">
              <a:solidFill>
                <a:srgbClr val="006699"/>
              </a:solidFill>
              <a:latin typeface="Comic Sans MS"/>
            </a:endParaRPr>
          </a:p>
        </p:txBody>
      </p:sp>
      <p:pic>
        <p:nvPicPr>
          <p:cNvPr id="196" name="" descr=""/>
          <p:cNvPicPr/>
          <p:nvPr/>
        </p:nvPicPr>
        <p:blipFill>
          <a:blip r:embed="rId3"/>
          <a:stretch/>
        </p:blipFill>
        <p:spPr>
          <a:xfrm>
            <a:off x="3492360" y="1773360"/>
            <a:ext cx="4989600" cy="4113000"/>
          </a:xfrm>
          <a:prstGeom prst="rect">
            <a:avLst/>
          </a:prstGeom>
          <a:ln w="0">
            <a:noFill/>
          </a:ln>
        </p:spPr>
      </p:pic>
      <p:sp>
        <p:nvSpPr>
          <p:cNvPr id="4" name="PlaceHolder 3"/>
          <p:cNvSpPr>
            <a:spLocks noGrp="1"/>
          </p:cNvSpPr>
          <p:nvPr>
            <p:ph type="sldNum" idx="1"/>
          </p:nvPr>
        </p:nvSpPr>
        <p:spPr/>
        <p:txBody>
          <a:bodyPr/>
          <a:p>
            <a:fld id="{5DAF7914-A335-4A86-9E06-9DE543870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s never been any commercial mining in Antarctica, there are no current plans to mine Antarctica and mining is currently completely banned by the Antarctic Treaty. There are no known future plans by any of the Antarctic Treaty nations to reverse this decis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xposed rock is a rarity in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 original Antarctic Treaty was signed in 1959, the exploitation of resources was not discussed at all for fear of jeopardizing the Treaty. In the 1980's the issues were raised again, and led eventually to the Protocol on Environmental Protection to the Antarctic Treaty (an addition to the trea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drid Protocol was signed in 1991 by the signatories to the Antarctic Treaty banning mining, this is up for review in 2041.</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755105D-0F90-4340-B0CB-54A5CD8DC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ugh it might sound like an impressive piece of regulatory legislation, it was quite clear before it became law that there was no real commercial interest in mining or oil exploration in Antarctica for the foreseeable fut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s weather, ice and distance from any industrialized areas mean that mineral extraction would be extremely expensive and also extremely danger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cebergs that drift around the continent frequently grind into the ocean floor like billion (or trillion) tonne ploughs. Pack ice can be blown miles in a day and transportation even in the relatively ice-free summer months is far from assur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recently as the 2002/2003 season for instance, the annual relief of the UK Halley Bay base had to be completed by air after numerous attempts to reach the base by sea were beate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oil or minerals would need to shipped or piped out and then there's the problem of those vast icebergs again.</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E37547A7-DD65-4771-979D-1B142EB801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l</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oal has been found in two regions in Antarctica - the Transantarctic Mountains and Prince Charles Mount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of the Antarctic Treaty nations hired a mining  consultant to have an economic assessment made to potentially mine the Transantarctic Mountains coal. After a brief visit to Antarctica, the conclusion was not to waste money on having an appraisal do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coal he found was low quality - high moisture, high ash content - thin and in broken bands. Far better reserves are found elsewhere on earth and they are not yet exploi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rince Charles Mountains coal was better and had they been close to a major user of the coal may have been exploited. However, the distance and difficulty in getting them mean that once again they are not economically vi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BEB9297-2F8B-4975-A707-9AB76C894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1840" y="981000"/>
            <a:ext cx="8642520" cy="5616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ron ore is widespread in surface rocks in Antarctica and has been traced deep under the i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again however the fact that it is isolated in Antarctica means that it is not worth getting.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it contains only about 35% iron against other regions outside Antarctica where ores that are less than 60% are considered to not be worth mining as they contain so little iron.</a:t>
            </a:r>
            <a:endParaRPr b="0" lang="en-US" sz="3200" spc="-1" strike="noStrike">
              <a:solidFill>
                <a:srgbClr val="006699"/>
              </a:solidFill>
              <a:latin typeface="Comic Sans MS"/>
            </a:endParaRPr>
          </a:p>
        </p:txBody>
      </p:sp>
      <p:sp>
        <p:nvSpPr>
          <p:cNvPr id="20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on Or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9E72935D-2E77-4A04-AE59-B127C5AFC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ocks in Antarctica have been suggested to contain oil or gas. Even if this was the case - no drilling has taken place to find any - it is unlikely that they could ever be exploited commerciall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eliable authorities have estimated that it would cost over US$100 per barrel to get oil from Antarctica. Current oil prices per barrel (Sunday May 17 2009) are around $55.</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over 30 years worth of reserves of oil left, possibly even up to 100 years worth, so there is no urgency to get Antarctica's oil.</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nother obstacle, oil shale as a source of oil becomes economically viable</a:t>
            </a:r>
            <a:endParaRPr b="0" lang="en-US" sz="2800" spc="-1" strike="noStrike">
              <a:solidFill>
                <a:srgbClr val="006699"/>
              </a:solidFill>
              <a:latin typeface="Comic Sans MS"/>
            </a:endParaRPr>
          </a:p>
        </p:txBody>
      </p:sp>
      <p:sp>
        <p:nvSpPr>
          <p:cNvPr id="204"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il and gas</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080F951B-64C1-473A-921E-67920EFF35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475920"/>
            <a:ext cx="8642160" cy="532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til the 1960s, some species of whales and seals were taken to the brink of extinction by human activities in Antarctica.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ste and garbage was left where it fell, burnt in great open fires or was deposited in the ocea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sheries were non-existent or on a very small scale, but either way were completely unregulated.</a:t>
            </a:r>
            <a:endParaRPr b="0" lang="en-US" sz="3200" spc="-1" strike="noStrike">
              <a:solidFill>
                <a:srgbClr val="006699"/>
              </a:solidFill>
              <a:latin typeface="Comic Sans MS"/>
            </a:endParaRPr>
          </a:p>
        </p:txBody>
      </p:sp>
      <p:sp>
        <p:nvSpPr>
          <p:cNvPr id="166" name=""/>
          <p:cNvSpPr/>
          <p:nvPr/>
        </p:nvSpPr>
        <p:spPr>
          <a:xfrm>
            <a:off x="6227640" y="5157720"/>
            <a:ext cx="2448000" cy="1295640"/>
          </a:xfrm>
          <a:prstGeom prst="wedgeRoundRectCallout">
            <a:avLst>
              <a:gd name="adj1" fmla="val -80675"/>
              <a:gd name="adj2" fmla="val -349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ppened in the 1960’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DBD37DCF-6E2E-4E9E-894D-17E8B0BD7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wo points of view</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3097C02-7B0F-4FA9-825E-D87065D77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268200" indent="-268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value of Antarctica in money terms is as                             big as it gets - as a source of fish and squid, a                                new frontier for tourists or to use the treasure                       trove of minerals that may lie beneath the ice                   and the surrounding seas. In Antarctica,                             anything is possible.</a:t>
            </a:r>
            <a:endParaRPr b="0" lang="en-US" sz="2400" spc="-1" strike="noStrike">
              <a:solidFill>
                <a:srgbClr val="006699"/>
              </a:solidFill>
              <a:latin typeface="Comic Sans MS"/>
            </a:endParaRPr>
          </a:p>
          <a:p>
            <a:pPr marL="268200" indent="-268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uture, global companies could become more powerful than governments. In many ways they already are. Oil and mining companies will be some of the most powerful, and most are driven by profit. If there’s money to be made in Antarctica, technologies will be found to deal with the conditions. It is also easy to see a future where these companies will pressure governments to give up the Antarctic Treaty and let mining and drilling go ahead. </a:t>
            </a:r>
            <a:endParaRPr b="0" lang="en-US" sz="2400" spc="-1" strike="noStrike">
              <a:solidFill>
                <a:srgbClr val="006699"/>
              </a:solidFill>
              <a:latin typeface="Comic Sans MS"/>
            </a:endParaRPr>
          </a:p>
          <a:p>
            <a:pPr marL="268200" indent="-268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am certain that the future will see increased commercial activity in Antarctica, and I don’t think this is necessarily bad. I believe in progress - economic development makes the world a better place. </a:t>
            </a:r>
            <a:endParaRPr b="0" lang="en-US" sz="2400" spc="-1" strike="noStrike">
              <a:solidFill>
                <a:srgbClr val="006699"/>
              </a:solidFill>
              <a:latin typeface="Comic Sans MS"/>
            </a:endParaRPr>
          </a:p>
        </p:txBody>
      </p:sp>
      <p:pic>
        <p:nvPicPr>
          <p:cNvPr id="209" name="" descr=""/>
          <p:cNvPicPr/>
          <p:nvPr/>
        </p:nvPicPr>
        <p:blipFill>
          <a:blip r:embed="rId4"/>
          <a:stretch/>
        </p:blipFill>
        <p:spPr>
          <a:xfrm>
            <a:off x="7451640" y="189000"/>
            <a:ext cx="1440000" cy="2151000"/>
          </a:xfrm>
          <a:prstGeom prst="rect">
            <a:avLst/>
          </a:prstGeom>
          <a:ln w="0">
            <a:noFill/>
          </a:ln>
        </p:spPr>
      </p:pic>
      <p:sp>
        <p:nvSpPr>
          <p:cNvPr id="4" name="PlaceHolder 3"/>
          <p:cNvSpPr>
            <a:spLocks noGrp="1"/>
          </p:cNvSpPr>
          <p:nvPr>
            <p:ph type="sldNum" idx="1"/>
          </p:nvPr>
        </p:nvSpPr>
        <p:spPr/>
        <p:txBody>
          <a:bodyPr/>
          <a:p>
            <a:fld id="{A8594227-BD64-473C-BDC5-62EBFF95B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will come to Antarctica for profit, but I believe that shareholders, customers and even the board of directors will influence the ways in which they make money. These stakeholders can guide companies to act in ways that don’t ruin Antarctica’s environment. Let’s face it, to make money you have to sell what people want, and you have to send out positive messages about what your company stands for. If the market cares enough about Antarctica, customers won’t put up with companies that wreck i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need a new vision for Antarctica – one that focuses on the positive, much like the way people look at activities in space with awe and wonder, full of amazing possibiliti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could use Antarctica without destroying it. In return for a licence to mine resources, companies could put money into science projects, vital to us all. There are other business opportunities too. With the right marketing, vodka on million year old Antarctic ice could become the drink of choice. They could even tow an iceberg from the Antarctic to ease water shortages elsewhere – the technology for this already exist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I think that Antarctica will be used commercially one day, but this can be controlled. At the same time we can draw on the pulling power and profit of global companies in ways that won’t destroy the hos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AFC163EE-96D1-453F-A8B9-294934D65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3"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t the moment, the Antarctic Treaty                                   determines what people can or cannot do on the continent, but there is always a risk that                           governments will abandon the trea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cussions on opening up Antarctica for mining resources like coal and oil, or using it for a dumping ground for waste should never happen. The ban on these activities must be permanent. Antarctica is too precious – it should have guaranteed protection for another thousand years, not fift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cientists from over 25 countries have already proved the importance of Antarctica in learning about life on Earth, both present and future. It is an essential place for measuring changes in the global climate and air pollution, yet no scientist can be certain about the impact of human activity in generations to com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s why it’s best to use ‘the </a:t>
            </a:r>
            <a:r>
              <a:rPr b="1" lang="en-US" sz="2400" spc="-1" strike="noStrike">
                <a:solidFill>
                  <a:srgbClr val="006699"/>
                </a:solidFill>
                <a:latin typeface="Comic Sans MS"/>
              </a:rPr>
              <a:t>precautionary principle’</a:t>
            </a:r>
            <a:r>
              <a:rPr b="0" lang="en-US" sz="2400" spc="-1" strike="noStrike">
                <a:solidFill>
                  <a:srgbClr val="006699"/>
                </a:solidFill>
                <a:latin typeface="Comic Sans MS"/>
              </a:rPr>
              <a:t> for any decisions over Antarctica’s future – to play safe rather than be sorry later. </a:t>
            </a:r>
            <a:endParaRPr b="0" lang="en-US" sz="2400" spc="-1" strike="noStrike">
              <a:solidFill>
                <a:srgbClr val="006699"/>
              </a:solidFill>
              <a:latin typeface="Comic Sans MS"/>
            </a:endParaRPr>
          </a:p>
        </p:txBody>
      </p:sp>
      <p:pic>
        <p:nvPicPr>
          <p:cNvPr id="214" name="" descr=""/>
          <p:cNvPicPr/>
          <p:nvPr/>
        </p:nvPicPr>
        <p:blipFill>
          <a:blip r:embed="rId5"/>
          <a:stretch/>
        </p:blipFill>
        <p:spPr>
          <a:xfrm>
            <a:off x="7586640" y="115920"/>
            <a:ext cx="1449360" cy="2155680"/>
          </a:xfrm>
          <a:prstGeom prst="rect">
            <a:avLst/>
          </a:prstGeom>
          <a:ln w="0">
            <a:noFill/>
          </a:ln>
        </p:spPr>
      </p:pic>
      <p:sp>
        <p:nvSpPr>
          <p:cNvPr id="4" name="PlaceHolder 3"/>
          <p:cNvSpPr>
            <a:spLocks noGrp="1"/>
          </p:cNvSpPr>
          <p:nvPr>
            <p:ph type="sldNum" idx="1"/>
          </p:nvPr>
        </p:nvSpPr>
        <p:spPr/>
        <p:txBody>
          <a:bodyPr/>
          <a:p>
            <a:fld id="{19814679-477B-4E5C-B1C0-8217053FAD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t was, scientists working for the British Antarctic Survey discovered the hole in the ozone layer. With improvements in technology, who knows what else we will discover so we can take action before it is too lat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ant to see the Antarctic Treaty as only a starting point. The Treaty’s rules and regulations should be tightened up so that in the futur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tellite technology will track illegal fishing boats to stop them even entering Antarctic waters.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tricter controls on tourism will prevent damage from the growing number of visitor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ll Antarctic research stations will be powered by renewable energy sources like solar energy and wind. </a:t>
            </a:r>
            <a:endParaRPr b="0" lang="en-US" sz="20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view of Antarctica’s future is keep it as it is today, except with better management and tighter controls to guarantee lasting protection for this special plac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D11EDB0-CEA5-4FBE-A79D-B99A5A383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 develop or to leave as an international park?</a:t>
            </a:r>
            <a:endParaRPr b="1" lang="en-US" sz="4800" spc="-1" strike="noStrike">
              <a:solidFill>
                <a:srgbClr val="006666"/>
              </a:solidFill>
              <a:latin typeface="Comic Sans MS"/>
            </a:endParaRPr>
          </a:p>
        </p:txBody>
      </p:sp>
      <p:sp>
        <p:nvSpPr>
          <p:cNvPr id="218" name="PlaceHolder 2"/>
          <p:cNvSpPr>
            <a:spLocks noGrp="1"/>
          </p:cNvSpPr>
          <p:nvPr>
            <p:ph type="subTitle"/>
          </p:nvPr>
        </p:nvSpPr>
        <p:spPr>
          <a:xfrm>
            <a:off x="684360" y="3860280"/>
            <a:ext cx="8208720" cy="1846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would you like to happen?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 you think that is the way it will g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853C585-6369-4D53-A599-7FB3F76CEE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 big story this year has been tourism</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erms of numbers, tourists greatly outnumber national research programme personne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6,069 as against 4,000 in the 2007/2008 season for inst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urist numbers were up 14% on the previous year leading to calls to limit the number of tourists allowed to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national programme personnel clock up far more person-days and impacts are difficult to compare direc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640EA2E-2AAF-46D0-B126-AC7F52508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ourists may only spend a relatively small time on landings, it is relatively "high-impact" time - compared to a scientist or electrician say who probably spend most of their time on a permanent or semi-permanent ba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urists will want to visit the most picturesque and wildlife rich areas of Antarctica, and they tend to do so in numbers far greater than the entire compliment of many Antarctic bas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the national programmes have relatively few visits of supply ships, whereas in the season, the great majority of all shipping activity in Antarctica is of tour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have been accidents with ships being grounded on uncharted rocks and there have been oil-spill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 the best safe-guards in the world (and it has to be said that marine regulations for Antarctic ships, both statuary and self-imposed are as good as they get) the more ships there are, the more accidents there will b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11D013AD-DB7E-470E-9CFE-A34FB661B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have been calls to restrict tourism, while others say that it is a once in a lifetime experience that everyone should have the opportunity to do o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have been provided with a few links to choose from – some taking each sid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ving investigated a bit, decide whether you think Antarctic tourism ought to be stopped or whether it is such a special place that everyone ought to be able to go once - state your opinion and explain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D4559A4-450F-4819-9A7E-75AF0E3E39E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5920"/>
            <a:ext cx="8642160" cy="360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the years since the Antarctic Treaty came into force, ever greater environmental awareness has led to increasing regulation by the Antarctic Treaty System.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plants and animals in Antarctica are now protected and there are measures in place to prevent pollution of this - the worlds most pristine environment.</a:t>
            </a:r>
            <a:endParaRPr b="0" lang="en-US" sz="2800" spc="-1" strike="noStrike">
              <a:solidFill>
                <a:srgbClr val="006699"/>
              </a:solidFill>
              <a:latin typeface="Comic Sans MS"/>
            </a:endParaRPr>
          </a:p>
        </p:txBody>
      </p:sp>
      <p:pic>
        <p:nvPicPr>
          <p:cNvPr id="168" name="" descr=""/>
          <p:cNvPicPr/>
          <p:nvPr/>
        </p:nvPicPr>
        <p:blipFill>
          <a:blip r:embed="rId3"/>
          <a:stretch/>
        </p:blipFill>
        <p:spPr>
          <a:xfrm>
            <a:off x="611280" y="4221000"/>
            <a:ext cx="3311280" cy="2198880"/>
          </a:xfrm>
          <a:prstGeom prst="rect">
            <a:avLst/>
          </a:prstGeom>
          <a:ln w="0">
            <a:noFill/>
          </a:ln>
        </p:spPr>
      </p:pic>
      <p:pic>
        <p:nvPicPr>
          <p:cNvPr id="169" name="" descr=""/>
          <p:cNvPicPr/>
          <p:nvPr/>
        </p:nvPicPr>
        <p:blipFill>
          <a:blip r:embed="rId4"/>
          <a:stretch/>
        </p:blipFill>
        <p:spPr>
          <a:xfrm>
            <a:off x="4859280" y="4076640"/>
            <a:ext cx="3313080" cy="2266920"/>
          </a:xfrm>
          <a:prstGeom prst="rect">
            <a:avLst/>
          </a:prstGeom>
          <a:ln w="0">
            <a:noFill/>
          </a:ln>
        </p:spPr>
      </p:pic>
      <p:sp>
        <p:nvSpPr>
          <p:cNvPr id="3" name="PlaceHolder 2"/>
          <p:cNvSpPr>
            <a:spLocks noGrp="1"/>
          </p:cNvSpPr>
          <p:nvPr>
            <p:ph type="sldNum" idx="1"/>
          </p:nvPr>
        </p:nvSpPr>
        <p:spPr/>
        <p:txBody>
          <a:bodyPr/>
          <a:p>
            <a:fld id="{E7294993-50A4-462C-90CD-0BD2490856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Antarctic bird or mammal can be killed or captured without a permit - granted only for scientific reas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easures must be taken to minimize harmful interference with wildlife and control the introduction of non-native species - animal or plant, even to the point of not taking soil or growing compost to Antarctica as it may contain plant seeds, fungal spores and adults or eggs of any number of soil-dwelling inverteb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stablishment of specially protected areas to protect sites of outstanding scientific interest and designate specially protected spec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E73AD26-A559-4C55-8548-F40F6E3F08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ls in particular are covered by a 1972 convention designed to prevent the resumption of sealing killing of both Ross and Antarctic fur seals is totally prohibited and catch limits on the other 4 species are set deliberately at low leve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isheries in the Southern Ocean are controlled by the CCAMLR - Convention on the Conservation of Antarctic Marine Living Resources. The aim of the Convention is to conserve marine life of the Southern Ocean - this does not exclude harvesting carried out in a rational mann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y discharges into the sea within the Antarctic Treaty Area are strictly regul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ning has been prohib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E71907A-B57E-4995-8567-278F202F6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people going there?</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Environmental Protocol of the Antarctic Treaty</a:t>
            </a:r>
            <a:r>
              <a:rPr b="0" lang="en-US" sz="2400" spc="-1" strike="noStrike">
                <a:solidFill>
                  <a:srgbClr val="006699"/>
                </a:solidFill>
                <a:latin typeface="Comic Sans MS"/>
              </a:rPr>
              <a:t> became law in 1998 after legislation in each of the member countries. One of the ways in which this protects Antarctica is by only allowing visitors to Antarctica by member nations as long as they are given a permit to do s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ranting of a permit is dependent on the visitors agreeing to adhere to certain rules and guidelin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Each nations rules are not the same in the detail, though they are similar in the general princip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case of UK citizens you need permission from the Secretary of State for Foreign &amp; Commonwealth Affai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ncludes all scientists, any ships or aircraft and any fishing</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8AED0BD-0F65-443D-8644-A049F12E92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rubbish?</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rom ships, oily water must be discharged at a port outside of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wage has to be treated and then can only be discharged outside 12 nautical mile limit – as can food waste that cut up into pieces smaller than 25mm – bones and bigger bits have to be discharged in a port in the same way as the oily wa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ste from the bases – no dumping at sea and no open burning – it has to be packed up and shipped out – however some food/sewage is permitted and careful monitoring show that there are no ill effect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any of the stations are now installing biological treatment pla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410218B-870F-4738-BAC7-2282433B4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however, the fear that distemper from dogs could spread to seals led to a new clause in the Antarctic Treat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Dogs shall not be introduced onto land or ice shelves and dogs currently in those areas shall be removed by April 1 1994".</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0" y="549360"/>
            <a:ext cx="3809880" cy="2446200"/>
          </a:xfrm>
          <a:prstGeom prst="rect">
            <a:avLst/>
          </a:prstGeom>
          <a:ln w="0">
            <a:noFill/>
          </a:ln>
        </p:spPr>
      </p:pic>
      <p:pic>
        <p:nvPicPr>
          <p:cNvPr id="180" name="" descr=""/>
          <p:cNvPicPr/>
          <p:nvPr/>
        </p:nvPicPr>
        <p:blipFill>
          <a:blip r:embed="rId4"/>
          <a:stretch/>
        </p:blipFill>
        <p:spPr>
          <a:xfrm>
            <a:off x="3851280" y="0"/>
            <a:ext cx="4817880" cy="3094200"/>
          </a:xfrm>
          <a:prstGeom prst="rect">
            <a:avLst/>
          </a:prstGeom>
          <a:ln w="0">
            <a:noFill/>
          </a:ln>
        </p:spPr>
      </p:pic>
      <p:sp>
        <p:nvSpPr>
          <p:cNvPr id="3" name="PlaceHolder 2"/>
          <p:cNvSpPr>
            <a:spLocks noGrp="1"/>
          </p:cNvSpPr>
          <p:nvPr>
            <p:ph type="sldNum" idx="1"/>
          </p:nvPr>
        </p:nvSpPr>
        <p:spPr/>
        <p:txBody>
          <a:bodyPr/>
          <a:p>
            <a:fld id="{85914874-B0C8-4667-8A07-0730C6EE0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ishing ??</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ishing is now the only large-scale resource exploitation that is going on in Antarctica. Most other world fisheries have been over exploited even where controls are in place to prevent this and this has to be a concern for Antarctic fisheries too.</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tential problems a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fishing of a particular target spec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ffects on other species that depend on the target species as a food resource or are eaten by the target spec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Killing of other fish, vertebrate or invertebrate species accidentally caught alongside the target species, the so called "by-catch".</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estruction of habitat by fishing gear</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4E8B202-FB0C-4254-8339-FAD5EDC9B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09:27:51Z</dcterms:created>
  <dc:creator>Lindy</dc:creator>
  <dc:description/>
  <dc:language>en-US</dc:language>
  <cp:lastModifiedBy>Lindy</cp:lastModifiedBy>
  <dcterms:modified xsi:type="dcterms:W3CDTF">2009-05-18T10:51:03Z</dcterms:modified>
  <cp:revision>4</cp:revision>
  <dc:subject/>
  <dc:title>Human impacts on Antarct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